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723-9AD0-4E66-B5FA-64158F7B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93B-5C57-4536-902C-0D84805A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C4A-AA58-4052-96CC-7A6BC1FF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331-7496-45E2-AACF-D0C2F2B7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675-F75F-4247-891B-CEC34288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48D-16B9-4145-A682-1FA8163E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31E-1926-4752-84E7-568D2C4E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576-246D-436A-91F1-AA053F80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17A-0C2B-414E-A64E-4F2C2B24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354-55AB-4E5A-B119-9C3AF7AE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A0B-7BDB-4918-827F-40A11212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6C9-CC07-427E-A984-E8EF53CF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69DC-5E61-4850-95EB-D0BF06271E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" Target="slide6.xm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28600"/>
            <a:ext cx="8229600" cy="72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单词拼写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Farmers p_________ city people with fresh vegetables and meat every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om s_________ cycling to the country instead of going by b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Jane is not present today. She has f_____ ill aga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A m_______ is a person who buys and sells goods for making mone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You mustn't drive too fast, for it is d________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685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905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gg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3124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343400"/>
            <a:ext cx="25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rc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2920" y="5562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ange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57200"/>
            <a:ext cx="8305920" cy="74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Do you believe that some living things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 on the other plane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The football team of Class Five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打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 that of Class Four yester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The day when Macao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澳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returns to China is worth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庆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Taiwan Island is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_ from the main la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It is said that Australia was once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 to South Ameri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1600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352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eleb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4038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600408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nnec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914400"/>
            <a:ext cx="883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It's_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令人惊讶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at he should finish the given task in three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Johnsons are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庆祝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ristmas far from thei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Mr. Wang is in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管理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our class. He is our class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He went to England for the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目的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studying science and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Cook charted the coasts of the two island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分隔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y the narrow cha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8380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ston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905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eleb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19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3733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5257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6996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The enemy was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打败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nd all the cities were lib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After the battle the army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前进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ack towards R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Ship building used to be one of our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主要的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dus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child likes to eat sweet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饼干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Villagers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提供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Army with food and medi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6858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905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a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3048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j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560" y="426708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is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4952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ov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457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33520"/>
            <a:ext cx="9144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He remembered that he put the shoes in the box under his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remembered ________the shoes in the box under the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speech given by Captain Cook excited us very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____ ____ ____the speech given by Captain C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e is not interested in these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____ ____ ____ ____these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676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u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191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ere excited 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592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akes no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09480"/>
            <a:ext cx="9144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They surprised us with a vi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____us____ _________with a vi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While he was doing his homewor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heard someone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 _______his homewor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heard someone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1295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y    su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76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ile 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228600"/>
            <a:ext cx="876312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Wang Lin insisted on ____to work in the country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be se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B.sending     C.being se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D.s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When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hotel will be the highest building in the 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be comple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B.comple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we comple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D.it comple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We shall travel by night as ____by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an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both        C.wel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D.well as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19720" y="13716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9880" y="34290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786280" y="556272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380880"/>
            <a:ext cx="88390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They joined the team ____of the missing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in searc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to sea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search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sear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Mr Wang is ____the library while the lab is ____his w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in charge of…in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in the charge of…in charg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in charge of…in the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in the charge of…in the charg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99072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8600" y="518148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181080"/>
            <a:ext cx="891540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Please remember ____to me as soon as you get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wr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B.having writ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o wr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D.to have writ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He suggested the man ____to pri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referred to…be s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referring to…should be s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referred to…was sent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referring to…was s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280" y="20574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58128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14:55:34Z</dcterms:created>
  <dc:creator>w</dc:creator>
  <dc:description/>
  <dc:language>en-US</dc:language>
  <cp:lastModifiedBy>w</cp:lastModifiedBy>
  <dcterms:modified xsi:type="dcterms:W3CDTF">2004-08-04T15:30:05Z</dcterms:modified>
  <cp:revision>8</cp:revision>
  <dc:subject/>
  <dc:title>PowerPoint 演示文稿</dc:title>
</cp:coreProperties>
</file>